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12010"/>
        <c:axId val="85304739"/>
      </c:barChart>
      <c:catAx>
        <c:axId val="41412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04739"/>
        <c:crosses val="autoZero"/>
        <c:auto val="1"/>
        <c:lblAlgn val="ctr"/>
        <c:lblOffset val="100"/>
        <c:noMultiLvlLbl val="0"/>
      </c:catAx>
      <c:valAx>
        <c:axId val="85304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12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47D-3B99-444E-976D-2A409666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BCE-65C8-47AC-B5E8-0D78BF8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6E5-C699-4939-BE95-EB1C3A64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027-8929-465E-B584-D9B274D2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B43-0051-4C8F-AB2C-62DB67F0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D90-532D-467E-A07D-5CF37D81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D3E-AF10-47E4-864A-DD4746A2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70D-B9B4-4648-AE4F-8A1700E1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5B9-2DCF-4A4E-82D5-6CD7A424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EB7-5225-40E4-9AA5-43E3669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22A-1A19-4103-B77E-F6DDCB50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056-136A-43CA-873C-767B1EF6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A1AB2-6BB7-47EB-9B1C-02A5131FF0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