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1157"/>
        <c:axId val="10968846"/>
      </c:barChart>
      <c:catAx>
        <c:axId val="79341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8846"/>
        <c:crosses val="autoZero"/>
        <c:auto val="1"/>
        <c:lblAlgn val="ctr"/>
        <c:lblOffset val="100"/>
        <c:noMultiLvlLbl val="0"/>
      </c:catAx>
      <c:valAx>
        <c:axId val="10968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1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298-C3CA-48D3-BC21-E80B4F26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25D-F24F-4A58-B114-05C50414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540-2635-42F0-9837-7269B0DF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A73-FA81-434B-88D4-19BFFB2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89A-3097-4D10-9535-B0028E9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79C-8F50-4B74-B824-01AAF91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EA0-839B-4CBA-961C-F90F2FFA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5E7-76FC-4CB6-8C33-F09DA682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3AC-83DD-4F9C-B513-8A0FFA9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8DD-48E8-4AF9-91B7-81C95F0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5AE-6730-47E6-8B2B-7BBDD04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250-83F7-41A7-B0F5-C08A6BE2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9DEF6-0AE0-4744-9B7B-83F799372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