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93031"/>
        <c:axId val="48639459"/>
      </c:barChart>
      <c:catAx>
        <c:axId val="26693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39459"/>
        <c:crosses val="autoZero"/>
        <c:auto val="1"/>
        <c:lblAlgn val="ctr"/>
        <c:lblOffset val="100"/>
        <c:noMultiLvlLbl val="0"/>
      </c:catAx>
      <c:valAx>
        <c:axId val="48639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93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C94-F34F-4406-A16D-C3461582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22D-92B1-4D5A-B7E0-21AADD96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CEC-EB8B-453A-A6D2-2B3A0F4D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D1F-57C5-4CEA-81F1-D7797286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553-AADB-4E80-9831-A1A5F0F7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3CB-E8D2-4BA4-96B8-CF10D408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2BC-A2B3-44E7-93D4-17054F51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855-024B-4D37-9B0A-DDE440C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EB8-2707-4E90-BFDB-1236E6F0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A83-F454-4412-BEF8-EFED1AAE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B18-906A-43F9-A97C-D4D1A5DC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A4F-7D1B-4308-B9D8-FA2DC2CA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FCF3D-DF2A-4D31-9CCE-44B01F9ED0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