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43231"/>
        <c:axId val="19696813"/>
      </c:barChart>
      <c:catAx>
        <c:axId val="24843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96813"/>
        <c:crosses val="autoZero"/>
        <c:auto val="1"/>
        <c:lblAlgn val="ctr"/>
        <c:lblOffset val="100"/>
        <c:noMultiLvlLbl val="0"/>
      </c:catAx>
      <c:valAx>
        <c:axId val="19696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43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910-730E-44B9-84D0-5E2D8B62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1AF5-35A1-4FE2-AF79-7EE0F7E3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E385-AEE3-466E-A043-91A8B596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F3C-F77E-4DA4-9D37-ACB7CE63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1BCF-BD60-4A5E-A896-1332ECFD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5F91-E3F6-4E9B-BAAF-7E0C6D6C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E62-894D-4542-A902-3334217F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7896-D94C-40E3-8CD7-799F33E0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863B-1B72-4FB8-8CBE-0494FFE5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6D6-9A79-417A-A97C-B53CBA83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179-2AF4-4D30-BD85-FA124FFD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4C1-869B-41C7-A130-DEAF7A43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B5235-77E6-41D2-BE4D-1AC5504510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