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45038"/>
        <c:axId val="69393538"/>
      </c:barChart>
      <c:catAx>
        <c:axId val="95145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3538"/>
        <c:crosses val="autoZero"/>
        <c:auto val="1"/>
        <c:lblAlgn val="ctr"/>
        <c:lblOffset val="100"/>
        <c:noMultiLvlLbl val="0"/>
      </c:catAx>
      <c:valAx>
        <c:axId val="69393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45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F78-FA6C-47EE-B763-247CDA77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C4B-DF7A-4471-A973-FB9D07C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F41-CA2B-4084-A967-7D1DFCD0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E1F-2A1C-45F7-B03F-45CC3A1E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7AA-A51F-4F9C-8E92-B9037A1E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E78-A945-434F-8C43-732F5553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925-5933-44EF-887D-6387096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BDA-A06C-4F81-A85F-A27AE7BB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8F8-13E4-4DFD-8ED6-7E638EB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442-280D-4092-9A2C-44BB940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103-A135-47ED-8CF1-A7808E7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924-C730-41FD-8532-F1041274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856B9-4651-43EF-AE9F-97C5A4B6D7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