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4731"/>
        <c:axId val="58023509"/>
      </c:barChart>
      <c:catAx>
        <c:axId val="5044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23509"/>
        <c:crosses val="autoZero"/>
        <c:auto val="1"/>
        <c:lblAlgn val="ctr"/>
        <c:lblOffset val="100"/>
        <c:noMultiLvlLbl val="0"/>
      </c:catAx>
      <c:valAx>
        <c:axId val="58023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4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8C9-9DDC-4EC5-91EE-4AED5324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9CD-AC4A-4E82-8589-68AF9991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6F9-9133-4116-B804-424837BC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143-9A19-4E51-83A0-D9820E74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891-B8E2-4810-9330-AEDD6916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553-D5DC-42C4-8D28-6281DFC1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518-05D3-4796-AC8E-9A511E66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355-22EF-45B6-92E2-2F5FB5C2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141-DBA9-442A-8E71-4E9C4F90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018-A88E-460C-99AD-C321D7B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7D2-0766-4364-AB58-E488AE2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9F7-6393-4E2E-8D73-D7811C5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536DB-4723-4181-85D3-A391071E97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