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74600"/>
        <c:axId val="83173908"/>
      </c:barChart>
      <c:catAx>
        <c:axId val="33274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73908"/>
        <c:crosses val="autoZero"/>
        <c:auto val="1"/>
        <c:lblAlgn val="ctr"/>
        <c:lblOffset val="100"/>
        <c:noMultiLvlLbl val="0"/>
      </c:catAx>
      <c:valAx>
        <c:axId val="83173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74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A57-AA20-40EE-8642-89AE5D25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653-7EEB-4A77-A8EE-377CB6D4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E00-1DB0-4E12-9093-7389E9B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B14-5812-4BC2-8C63-19EEF23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452-5AB1-4D96-A914-B92442A5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B32-1777-437E-9F94-74A9A7D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2EC-2BA9-409C-A715-E1C4363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86B-718B-490F-9C1B-7EF8697C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70B-340F-441D-A20D-0802B46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C56-344E-49AA-A68A-7694D2A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537-E354-4CD3-AF94-4098CFA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11C-BE62-4656-B89F-9825000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A0AAD-D69E-4EBC-8812-A03C6C7DFE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