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460277"/>
        <c:axId val="92339991"/>
      </c:barChart>
      <c:catAx>
        <c:axId val="634602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39991"/>
        <c:crosses val="autoZero"/>
        <c:auto val="1"/>
        <c:lblAlgn val="ctr"/>
        <c:lblOffset val="100"/>
        <c:noMultiLvlLbl val="0"/>
      </c:catAx>
      <c:valAx>
        <c:axId val="923399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602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FFAD-DE27-4229-8CC3-92A2154F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B9A2-8147-4B57-A8FB-8797AA17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CBD5-910A-4E83-9E09-19D8C033A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1F17-F995-4573-9722-BE60CEFD6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9715-5BCF-40D0-A865-F787BDAC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48DD-3BAD-4B4C-B543-B970764F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1F10-881E-4DC6-960C-1B4A8398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7D7B-5A63-49D1-BCB3-D5EFC6C7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7C93-10D3-4516-B9C1-1F49D20F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F448-12CF-45E6-9B14-9F1B6B10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1847-3C30-4994-83CF-CE10B1FF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5BA2-5F0E-41D6-B861-A66CCA34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A80C0-E868-4EDB-BFC1-E3037AC69F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