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79590"/>
        <c:axId val="81597929"/>
      </c:barChart>
      <c:catAx>
        <c:axId val="54279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97929"/>
        <c:crosses val="autoZero"/>
        <c:auto val="1"/>
        <c:lblAlgn val="ctr"/>
        <c:lblOffset val="100"/>
        <c:noMultiLvlLbl val="0"/>
      </c:catAx>
      <c:valAx>
        <c:axId val="81597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9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B49-4D05-4349-A6D7-6DC14EE0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3A4-6C8D-41F2-8113-4BB741B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5F4-DBAF-41A2-800F-3A706115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AA6-0150-46B8-BA52-4F7BE1EE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E8F-D739-4CF6-9CFE-7B439CDA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42E-490A-472F-885E-770C32B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31A-E8D5-4342-855C-1ADDBB7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8E2-AE27-4BD3-9056-F6D2787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E6E-030B-4D52-9EF1-4C6075C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43E-E229-4E90-9139-7A4E089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8FA-CFC8-46DD-A42A-5170577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9A5-7DDF-4D8B-8F83-18E4DB6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4DF97-0DA0-43C4-ABF1-C172C62D5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