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84648"/>
        <c:axId val="63514795"/>
      </c:barChart>
      <c:catAx>
        <c:axId val="64184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14795"/>
        <c:crosses val="autoZero"/>
        <c:auto val="1"/>
        <c:lblAlgn val="ctr"/>
        <c:lblOffset val="100"/>
        <c:noMultiLvlLbl val="0"/>
      </c:catAx>
      <c:valAx>
        <c:axId val="63514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84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AE47-2689-4265-9851-D2993061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ABE-22C7-4B78-9EF0-02415AEC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C8D9-EEB1-4742-9A49-69C6BCFF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A1C2-40DD-4799-9AE3-1945D989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CE8-C714-40B4-8C02-B8FE8EEF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DA2-208B-42E6-81E4-1F83ED9B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0AEB-5F97-456D-823F-2FD06C0F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810-6860-4CFF-B588-BFCEBEF1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99B5-042C-4D7D-A071-9A56CD86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32E-198F-4BC2-AC5C-8B08AACC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3CA8-1818-4061-875B-208F4D56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2992-C992-4027-8FD2-77DE5643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5BD79-A2A5-4732-9747-293A7941C3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