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468897"/>
        <c:axId val="20723892"/>
      </c:barChart>
      <c:catAx>
        <c:axId val="294688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23892"/>
        <c:crosses val="autoZero"/>
        <c:auto val="1"/>
        <c:lblAlgn val="ctr"/>
        <c:lblOffset val="100"/>
        <c:noMultiLvlLbl val="0"/>
      </c:catAx>
      <c:valAx>
        <c:axId val="207238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688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49A4-CE53-4941-ADAA-7A38B983C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F149-A52F-4601-B54D-96311240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D0FC-3164-4485-9D17-52AFE4E68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A9C4-DB13-4694-8BCD-213972DE1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CBD3-1C93-4C06-980D-9CB22468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A93B-2F97-4ECD-B63D-E6C3E5B7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D4B3-F034-4B28-865B-28301B19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5A8B-CB0C-45C0-AEE2-8CC70ECA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05D7-DCD7-4659-854C-4A139A3F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4A80-A782-4630-8215-37FF9A85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D7CE-5C23-4221-AFAD-E1DDCD98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964D-E5D0-41E4-8DDD-05641E43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063E7-BE6F-44A0-985E-623B743942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