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88476"/>
        <c:axId val="47540860"/>
      </c:barChart>
      <c:catAx>
        <c:axId val="572884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40860"/>
        <c:crosses val="autoZero"/>
        <c:auto val="1"/>
        <c:lblAlgn val="ctr"/>
        <c:lblOffset val="100"/>
        <c:noMultiLvlLbl val="0"/>
      </c:catAx>
      <c:valAx>
        <c:axId val="475408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884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FAD-C4A2-4F5F-9597-D64E7646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1862-7838-469A-82D5-31E0E4C5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C7AD-8306-4269-BA42-1BEAFE76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48E-2D7A-440D-B5AC-75C1F4C4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A8E0-B312-4F6F-B4B5-0418DE4A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24B-7D86-445C-9D0D-23E87FD7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BA1-DA5E-41E4-8450-3D89647A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658-3627-4351-B49D-1E8EFBE6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47AB-E9C4-4A65-88AA-365E6096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E3E-7CD1-4B86-AD05-05C427CB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0095-C2B0-4158-9D96-FC4E8A28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87A-BE2A-4531-B870-147C7B8B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DD2F7-F5B4-4620-BDCE-A9BC7906E5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