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169337"/>
        <c:axId val="48361669"/>
      </c:barChart>
      <c:catAx>
        <c:axId val="291693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361669"/>
        <c:crosses val="autoZero"/>
        <c:auto val="1"/>
        <c:lblAlgn val="ctr"/>
        <c:lblOffset val="100"/>
        <c:noMultiLvlLbl val="0"/>
      </c:catAx>
      <c:valAx>
        <c:axId val="483616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1693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95E3-038E-4FF0-9153-7A50A22E0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0296-F8B6-4C65-883B-D86E47EAD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F67E-6756-4507-B8C9-50F0EF129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92BF-701A-473F-8B44-26EFDD8C8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B53B-70F6-4C77-947C-C69AF7E9C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F1B5-50E2-4BB9-94E4-420A53A2F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76DA-3BA0-496A-8107-06D1B550B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B2EE-4935-4F97-8EC4-6548151F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AAEF-BC5D-4169-9783-78C17C442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7EE7-809E-40A4-81A8-72204527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51EE-1AAC-46FF-90BE-E9C6F8C3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7A48-F866-40CE-AB8A-0752D484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57C1BC-3DB0-4967-BC9B-B4E1C3B9BE5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