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08249"/>
        <c:axId val="46606336"/>
      </c:barChart>
      <c:catAx>
        <c:axId val="18108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6336"/>
        <c:crosses val="autoZero"/>
        <c:auto val="1"/>
        <c:lblAlgn val="ctr"/>
        <c:lblOffset val="100"/>
        <c:noMultiLvlLbl val="0"/>
      </c:catAx>
      <c:valAx>
        <c:axId val="46606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08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E48-EA02-4DAA-91D0-5847EF33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5C3-9135-49C8-8E5F-E012D74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373-41D6-43EF-A4A6-A457592C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8E8-C89A-48B5-A90E-A536DBF6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FE6-38E1-4941-B5B4-FE8F0F1C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CE8-E61E-417A-A7F5-8AE8D371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A25-8F8C-4559-B181-FE9CC1C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FDE-21C8-4E0F-A6F5-4352EA60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825-3D2A-4567-A074-76766AE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A4E-120E-4677-B329-D059F82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A60-2984-4546-8689-4BA2D87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AC9-82D9-4A63-9C84-3CE538F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8BF70-3B46-4A3F-B1A9-DCF7095F5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