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94489"/>
        <c:axId val="87752914"/>
      </c:barChart>
      <c:catAx>
        <c:axId val="74394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52914"/>
        <c:crosses val="autoZero"/>
        <c:auto val="1"/>
        <c:lblAlgn val="ctr"/>
        <c:lblOffset val="100"/>
        <c:noMultiLvlLbl val="0"/>
      </c:catAx>
      <c:valAx>
        <c:axId val="87752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94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2EC-7F00-4886-AAB7-59DF67C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6B6-34B6-45A4-B22D-92DA654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7FF-3D93-495F-8C1A-B1918360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CBD-3A21-4745-BBF8-F366CDD4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73D-700A-44CD-B415-082030F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088-EC25-4BA7-A321-36D6326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F7F-91D0-472A-89E0-7EE0E044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03B-9C53-40D7-A437-93A2AE98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60B-857E-4D6B-8DF0-45C4F05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B72-FF03-4A5C-9DF1-5C337CC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65C-FE5D-4BD5-9889-2516B4A8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6E6-43B3-4740-BDC7-4F4DE4FE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2FBEB-53CF-419E-92AD-4DAA03CEB3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