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5093"/>
        <c:axId val="96437255"/>
      </c:barChart>
      <c:catAx>
        <c:axId val="1285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37255"/>
        <c:crosses val="autoZero"/>
        <c:auto val="1"/>
        <c:lblAlgn val="ctr"/>
        <c:lblOffset val="100"/>
        <c:noMultiLvlLbl val="0"/>
      </c:catAx>
      <c:valAx>
        <c:axId val="96437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5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93D-8C01-4E17-A52E-4064D969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B15-E6E7-42E3-9172-81D44BA9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23C-6D2D-4164-9DD2-5F162B3F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7A6-467C-4599-9981-ED041B30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377-23DF-4F77-9FE5-63984F1F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856-12D7-4835-986E-7912D383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717-77A2-48FF-9D0D-24738C75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EB9-306F-4C5E-BD34-0AC4E877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6B7-B503-4C73-93D4-03994CEB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4F2-7510-4EC7-B2C9-83407D4F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D68-DDF9-4C60-BF68-F8C22200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38B-D8D7-4695-AEC4-5D5D2EF2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68552-8D9E-4B30-BDC0-22D2023592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