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11454"/>
        <c:axId val="56542886"/>
      </c:barChart>
      <c:catAx>
        <c:axId val="81111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42886"/>
        <c:crosses val="autoZero"/>
        <c:auto val="1"/>
        <c:lblAlgn val="ctr"/>
        <c:lblOffset val="100"/>
        <c:noMultiLvlLbl val="0"/>
      </c:catAx>
      <c:valAx>
        <c:axId val="56542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11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EF0-1F7D-446D-900D-CAE779E6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64B-D489-4395-9491-CDFFDF33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C62-98B1-4593-BA6A-36631D3D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667-6CB3-46D2-B0B9-666B0638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833-3934-4B46-88BB-70A97A3E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527-08BE-423F-8F8E-74A4954A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1EF-2436-408F-B198-64C4093B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CDA-2B68-45C3-B603-8B14DB98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9AE-644B-47E7-A1EF-011B3A52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E4D-26D9-49B9-97AB-E1196D68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D80-BFBB-415C-85B1-E619BC72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7CA-5788-445B-A746-2592A3D9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9A32C-F79B-478C-970E-8CB1B9961A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