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27831"/>
        <c:axId val="46487734"/>
      </c:barChart>
      <c:catAx>
        <c:axId val="68727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87734"/>
        <c:crosses val="autoZero"/>
        <c:auto val="1"/>
        <c:lblAlgn val="ctr"/>
        <c:lblOffset val="100"/>
        <c:noMultiLvlLbl val="0"/>
      </c:catAx>
      <c:valAx>
        <c:axId val="46487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7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2AC-1EDE-47FC-883B-CBF711E1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AE3-415D-4CFB-A5CC-0D9FAA3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842-3A82-4DC0-8585-E215DECB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03C-C596-4118-9713-BF7F4EF6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15A-F170-4708-A5DD-8509C22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543-E384-45AE-ACC4-B84DACE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48F-530C-4DE2-9049-03022E63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26C-4E71-4D05-85BE-D22B45F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714-1611-4368-B327-D02217F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A9E-EE4E-453E-B64F-8C6EB54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CC4-CC03-4F73-AB7D-20BB1FA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3C3-E569-455D-8945-662BBA9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1BDF1-AC23-45F1-B997-03AD26F4F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