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50605"/>
        <c:axId val="56359103"/>
      </c:barChart>
      <c:catAx>
        <c:axId val="59350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59103"/>
        <c:crosses val="autoZero"/>
        <c:auto val="1"/>
        <c:lblAlgn val="ctr"/>
        <c:lblOffset val="100"/>
        <c:noMultiLvlLbl val="0"/>
      </c:catAx>
      <c:valAx>
        <c:axId val="56359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50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C27-5732-4BF8-8BA9-A79FDBC8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270-3484-40B8-8655-7A56255B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B08-9B81-4B5A-8988-73ACBAC9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E18-5500-426D-BA24-57013534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E97-4452-4C7D-BD93-E6DBD790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2F0-6EAB-4DE0-9028-599CD3DC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D77-197E-4345-A487-1C60D3F9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DE8-EE42-44A5-85A0-853384D2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C2C-9AFF-4230-A774-1CDA9582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D57-9AC1-46F3-AF36-AC1449C2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E05-D2A9-4AA1-81EE-AC9C77F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E50-893B-47D8-9893-7819BE3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ED970-8D2E-4EA6-ADBE-B3D4B2B3A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