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303611"/>
        <c:axId val="50897833"/>
      </c:barChart>
      <c:catAx>
        <c:axId val="843036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97833"/>
        <c:crosses val="autoZero"/>
        <c:auto val="1"/>
        <c:lblAlgn val="ctr"/>
        <c:lblOffset val="100"/>
        <c:noMultiLvlLbl val="0"/>
      </c:catAx>
      <c:valAx>
        <c:axId val="508978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036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809A-EC25-45E6-99EB-CF6834FDD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9EE4-DCE5-4B7A-AA05-296DF566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50B5-F4E7-4C8F-9E2F-30348FACF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4BAE-FCA4-4224-A8D0-AEF6ADBC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C879-8F3D-4D34-A1D2-A478D6EB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5EDA-1BA4-412E-8ED0-57770168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5D0E-8499-420A-9A17-821B34C3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2160-C03E-4E80-AF95-39035650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A843-B0D9-4B17-A625-DEF6E0A9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B465-B6FE-4717-BD26-732559A5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0D8D-4E07-4A69-9D20-9B70F782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C9B6-1920-43C9-A38E-1632324A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545D1-1081-40E4-B0DC-CE27B5F34A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