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30227"/>
        <c:axId val="27221532"/>
      </c:barChart>
      <c:catAx>
        <c:axId val="58730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21532"/>
        <c:crosses val="autoZero"/>
        <c:auto val="1"/>
        <c:lblAlgn val="ctr"/>
        <c:lblOffset val="100"/>
        <c:noMultiLvlLbl val="0"/>
      </c:catAx>
      <c:valAx>
        <c:axId val="27221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30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301-E7D4-4403-BB6D-22D6BD0D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934-D2D0-4F31-B994-C56EBCD3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EB4-0849-4423-B140-A025FE7A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29B-E2CC-4A45-B7B4-E072A28E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FD5-2BDB-4264-B151-B1A5AD3C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152-1810-45D8-8D9B-DB5C1485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36D-53A4-4D84-A52C-A4F146EF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992-B4BF-43BD-9A3D-7EF5CF72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3B0-2005-4CF3-BC97-20C149FD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797-CD3B-4AB7-A894-8F2CF0B9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01B-23A8-4F11-BBAF-A2F5FE51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B4A-4665-4492-BDD0-F6B0DE4D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5FFB4-21AB-4196-9F48-71189E925D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