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351455"/>
        <c:axId val="58400026"/>
      </c:barChart>
      <c:catAx>
        <c:axId val="193514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00026"/>
        <c:crosses val="autoZero"/>
        <c:auto val="1"/>
        <c:lblAlgn val="ctr"/>
        <c:lblOffset val="100"/>
        <c:noMultiLvlLbl val="0"/>
      </c:catAx>
      <c:valAx>
        <c:axId val="58400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514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132-BA2B-4495-B492-67360462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3F25-8F21-477F-A373-4419A42B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463-F7AC-454C-8C58-8A9E80EC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DA1-AABF-4D5C-8235-A3DEC681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6A7-535C-4911-B9CB-F835E58F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8BF5-7B1C-4156-877E-2A57CCAB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52D-6D4C-4EA8-BC46-1A956D11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788B-876D-4DB8-8B7A-9C43B9FD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B06-05DB-4973-A242-E9E74BEA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437-5168-44EE-A153-0F702DAB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58A-0C5C-498D-998F-480A2443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A20-25AD-427D-99D9-361BE7BF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D4A8D-DC78-4AB3-82B8-E011745621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