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61327"/>
        <c:axId val="9589477"/>
      </c:barChart>
      <c:catAx>
        <c:axId val="58761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477"/>
        <c:crosses val="autoZero"/>
        <c:auto val="1"/>
        <c:lblAlgn val="ctr"/>
        <c:lblOffset val="100"/>
        <c:noMultiLvlLbl val="0"/>
      </c:catAx>
      <c:valAx>
        <c:axId val="9589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61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868-2615-4706-8D3A-B8E8D17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B4B-9BE8-4416-99C0-CD957E2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90D-76B7-45EF-9CB2-1EDEE825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E5B-656C-45E1-8595-CEC9AC94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CB2-9060-4672-AF3F-33A1A298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78C-C382-4418-A29B-828B834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07D-5052-4153-96F3-65E19246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A3A-B75B-408F-931C-2954511E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555-0286-407B-847B-B471286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C26-5E10-4292-ADED-08814E4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61A-955F-4D67-88C2-B8AEE20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CCE-8237-4BDA-BD14-9D5B969C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133E-E4D0-450C-B57B-76B2B2569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