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31626"/>
        <c:axId val="67380191"/>
      </c:barChart>
      <c:catAx>
        <c:axId val="55231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80191"/>
        <c:crosses val="autoZero"/>
        <c:auto val="1"/>
        <c:lblAlgn val="ctr"/>
        <c:lblOffset val="100"/>
        <c:noMultiLvlLbl val="0"/>
      </c:catAx>
      <c:valAx>
        <c:axId val="67380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31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BB5-F6D7-409B-B0E4-CBE68C8C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5DD-8231-44CE-9D9F-986064E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1D4-5177-442E-B10A-DE218B4F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315-8AFD-455B-A9DF-08C35C1E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BEC-B28D-4785-ABD5-01B4307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B2C-AE7E-4D2C-9712-66199717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F79-E428-4DB2-B3F7-DAE35B0A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D0C-E1E1-4286-B2AA-B8403B5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87C-35A6-4790-8DFD-88142449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93B-C21B-401F-9D5A-A547CF5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667-3681-4C09-82A4-949E077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EFE-6EC8-46CD-AF78-1991C6E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0D37-434B-4688-95D0-F6286C799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