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884847"/>
        <c:axId val="5041876"/>
      </c:barChart>
      <c:catAx>
        <c:axId val="388848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41876"/>
        <c:crosses val="autoZero"/>
        <c:auto val="1"/>
        <c:lblAlgn val="ctr"/>
        <c:lblOffset val="100"/>
        <c:noMultiLvlLbl val="0"/>
      </c:catAx>
      <c:valAx>
        <c:axId val="50418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848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D488-A843-4164-86C3-3B5C899F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EE4C-72DD-4BB6-B794-D5065B8C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3743-D9DE-4910-93A5-100BA750E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084B-F211-4F11-9753-019ADE05D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F680-E500-470C-B89A-FC504025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0D5B-E851-402A-A541-F4866A0D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4FB8-3406-4B38-8C55-A458E717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7659-A44D-4366-AA5D-0F7B0F1B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148C-4A85-448F-A350-23DA046D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D328-CE43-4D42-ADDA-E5A26642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53EB-4FBA-4DAD-908C-D9889BF7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4D9F-3BCE-43FC-A6E3-C89E32AC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65907-F0F7-4B81-99EF-403D46ACD9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