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60946"/>
        <c:axId val="47476482"/>
      </c:barChart>
      <c:catAx>
        <c:axId val="67760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76482"/>
        <c:crosses val="autoZero"/>
        <c:auto val="1"/>
        <c:lblAlgn val="ctr"/>
        <c:lblOffset val="100"/>
        <c:noMultiLvlLbl val="0"/>
      </c:catAx>
      <c:valAx>
        <c:axId val="47476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60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037-18E4-4DC9-9F0C-5195DDB5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5C8-B220-4C47-BFEE-54A48208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D9C-F4E2-4090-87B4-0E5F5FEF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86A-5FE3-4DDF-A471-49D0F5D3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948-6228-49E2-A4D3-857D79B1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D6D-9C3C-40E1-AF37-3667692C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68D-CF6A-40D4-A5FD-404687DF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E64-F127-416C-9036-EC2DC42D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D6C-A33F-4CF1-A626-EDBCBE78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A40-BB0D-4C56-8B23-0E3C56D7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32A-E152-401B-9CC3-BFCAB4BC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3D5-776A-4516-AC83-3BEDB5FB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B91FE-AD0A-4A66-9AED-CC2DF92F10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