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89941"/>
        <c:axId val="7695888"/>
      </c:barChart>
      <c:catAx>
        <c:axId val="39089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5888"/>
        <c:crosses val="autoZero"/>
        <c:auto val="1"/>
        <c:lblAlgn val="ctr"/>
        <c:lblOffset val="100"/>
        <c:noMultiLvlLbl val="0"/>
      </c:catAx>
      <c:valAx>
        <c:axId val="7695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89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89D-EEFE-446F-B3FE-EFDB16AC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09C-8CB7-4C39-9332-81882CD3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C95-ACC7-4DBA-92A2-8599D031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259-1EED-4B4B-AA9A-B053974A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C2B-BFEE-4629-87C8-DF876DB1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9B4-5DC2-445E-AB73-982D2378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E1B-38BF-4EB6-958F-CFC7CDCD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C51-F8EB-4AA3-94F5-DC06C67B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82D-F916-44F2-B4E7-5121FFA0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35D-7E2E-45E0-A5EE-1699DC49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56B-90CC-4ED7-8D72-2572955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351-95A2-4C13-AF0A-70F4702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EFCC2-2446-4B06-93F8-C4B25C22D0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