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9193"/>
        <c:axId val="67207360"/>
      </c:barChart>
      <c:catAx>
        <c:axId val="7309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07360"/>
        <c:crosses val="autoZero"/>
        <c:auto val="1"/>
        <c:lblAlgn val="ctr"/>
        <c:lblOffset val="100"/>
        <c:noMultiLvlLbl val="0"/>
      </c:catAx>
      <c:valAx>
        <c:axId val="67207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9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E87-4947-4E10-AF30-05F7F01E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85D-951A-4EF2-AB77-09B8065F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2ED-9141-4057-9F0E-7C959D74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694-9369-4FE1-94FE-C45EA946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B24-62FB-4239-B0DD-8ECBB669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23B-B58D-4420-8BD5-89050A55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B4C-3B80-456D-AEF0-440E480E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9E7-3D24-43A0-880F-2E862C8B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3FB-E473-4224-9AA6-FF61B6D2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E57-2D75-4AFF-888D-21DDABB0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B4C-BCB8-4497-906F-1145842D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AB6-A04D-48B9-A67E-E21DBF28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4AD1D-E920-475E-BAD5-77E838AE37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