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376059"/>
        <c:axId val="62661160"/>
      </c:barChart>
      <c:catAx>
        <c:axId val="843760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61160"/>
        <c:crosses val="autoZero"/>
        <c:auto val="1"/>
        <c:lblAlgn val="ctr"/>
        <c:lblOffset val="100"/>
        <c:noMultiLvlLbl val="0"/>
      </c:catAx>
      <c:valAx>
        <c:axId val="626611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760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95A6-045A-44C6-8AAF-948115ED5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7B9A-49B0-47B7-A92B-050474F1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EBE4-2CDF-4032-B606-69E85021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375D-C6A4-44D9-96BA-368EA7442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E0F3-500B-49F9-B5F1-13A6CA29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AEC2-4BBC-4159-AB66-CDDAC804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1E5E-C541-497A-81B8-E5926FE8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7479-8348-49F9-B098-05801540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6436-282E-4D2A-8AC3-75AC4D66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B3F4-08CC-4CC5-A1C1-826CBE61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F923-78F7-4E65-AC67-687DB4FC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6C95-E44F-4D09-9B0A-D94BF083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F545D-75C9-45F1-AE36-C6360823FD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