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82659"/>
        <c:axId val="31580968"/>
      </c:barChart>
      <c:catAx>
        <c:axId val="59082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0968"/>
        <c:crosses val="autoZero"/>
        <c:auto val="1"/>
        <c:lblAlgn val="ctr"/>
        <c:lblOffset val="100"/>
        <c:noMultiLvlLbl val="0"/>
      </c:catAx>
      <c:valAx>
        <c:axId val="31580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2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6FA-7956-4A79-B4A1-5E23ED51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907-648A-46A4-B7FE-10BF3A56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5F0-0973-4BD4-BE88-6173D17C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516-457A-4BF9-A0ED-220C19A2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1E9-53D2-49C1-A79E-E6563A6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80D-9D73-4448-983D-02C3F5C8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A26-E2F7-4C21-9DAB-CAE5B0D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472-2A0C-4F34-B879-122A49F6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3A5-CBDF-4C4D-9199-577E35EF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7D5-57C4-4909-A3BC-9726B18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835-4479-46E4-B523-2F0E1A6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E26-7CB1-4FD4-9253-E239477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B626B-6EB5-49EE-870F-CECF185AD5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