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45650"/>
        <c:axId val="3538348"/>
      </c:barChart>
      <c:catAx>
        <c:axId val="66145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8348"/>
        <c:crosses val="autoZero"/>
        <c:auto val="1"/>
        <c:lblAlgn val="ctr"/>
        <c:lblOffset val="100"/>
        <c:noMultiLvlLbl val="0"/>
      </c:catAx>
      <c:valAx>
        <c:axId val="3538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45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590-EBC1-4526-BECA-45103014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6B6-CA00-4B6D-A49F-4E8716B5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41A-7008-475E-8323-BE14324D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972-315C-4976-9E7B-7DA40FD0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F17-6610-47FD-9FC2-B0A045CF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D6E-095D-4FCB-8651-7FD7DC63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5F7-4A0C-41D7-B0B0-A7EC3AA6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B90-E8F2-44A3-A432-6B17765F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EFF-3AC4-46CD-BA13-2F1A3579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ECD-8257-439E-9536-C56956F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1DC-9F00-42ED-A724-030F10A7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263-ABA3-4664-9624-2B71BED2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88A23-5E35-4478-B103-80C56BAB96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