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38582"/>
        <c:axId val="38898760"/>
      </c:barChart>
      <c:catAx>
        <c:axId val="89638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8760"/>
        <c:crosses val="autoZero"/>
        <c:auto val="1"/>
        <c:lblAlgn val="ctr"/>
        <c:lblOffset val="100"/>
        <c:noMultiLvlLbl val="0"/>
      </c:catAx>
      <c:valAx>
        <c:axId val="38898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38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068-52BB-40C1-92F5-F4ACBA0E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12E-D2D7-410F-B884-686EACE0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FA0-8114-4754-BB3B-6616CB81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97D-42E2-414D-87A5-98BF5514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316-314C-453D-8333-8B768A6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350-BCE0-46FC-B213-2CF9D5A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BBF-1FBA-4C51-90A1-4D740CE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CA9-F671-474D-BC99-47C6984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275-0AA3-4A67-B95D-775B7B5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2B2-7C04-4C9C-BB54-2AB4C95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B3D-ACB3-4A99-B168-944718B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7F6-F802-4952-9025-D3A474B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3DDFF-E682-4950-914B-223D51BFA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