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05584"/>
        <c:axId val="63613820"/>
      </c:barChart>
      <c:catAx>
        <c:axId val="71005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13820"/>
        <c:crosses val="autoZero"/>
        <c:auto val="1"/>
        <c:lblAlgn val="ctr"/>
        <c:lblOffset val="100"/>
        <c:noMultiLvlLbl val="0"/>
      </c:catAx>
      <c:valAx>
        <c:axId val="63613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05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36A-11B6-4FF9-8BAC-7403F69F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99D-C177-4169-8ED8-B3C454E9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A55-4A81-4C4D-BDE1-07BD3C00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630-449B-494C-82DA-CD36B9C7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D0D-6177-4EEC-A8F3-687C9B1B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BAA-F7F6-49CD-8B5B-15EB6997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01D-6976-4FB8-97F7-E54D6C3F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C80-0096-4069-8335-28969FA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3A8-0B72-446C-BC84-188171B9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D31-30BE-4AA6-A114-D3427849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86F-573C-4FBA-A640-32002C2A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3A0-B28A-4CBE-BF85-CD54025A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1397D-5393-4E52-816E-24EFD19B7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